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D02F-D5C4-4249-9F6E-97B987917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6389-D570-436C-A8E6-4026BACEB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D646-4D36-4B11-9DB5-68CB50643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96D1-4361-4F13-8197-E89C8795E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3C907-C0A4-47CC-9A1F-713B84ED6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BA642-6BAD-4B23-B0AF-365E08332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22A89-7678-4A2E-93AA-A6D108AC6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95112-663D-4508-8E7D-9FCC8D663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1B8B0-FA6A-4DAD-AA02-F8E942FDB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84E30-F6CE-48B5-B277-C864E42F5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41B56-E1DC-473B-B4E7-7040828F7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F0CF-2867-4DD7-8F31-CE1514977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99F9D-A5C4-4333-9035-FC1A3A3B1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8B149-D561-48F7-B931-0641BCC60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A8B9A-B11B-4304-8FEE-A34A36946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144F6-6063-45D5-BDE2-E50A45946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D324E-1B9B-44FE-B77D-86C8F46F8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ED7F-4BC8-417D-97D1-397ACDD9B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73CB-585D-442E-84E6-5FA8DD907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8896-E66D-46B0-B535-CC8F96E4A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FCB6-35D5-4880-A38D-E7BD63557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78EB-4644-4442-A159-33D45F6FE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117D-4743-4D35-90EF-192B6931C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41B5-7E28-44E7-9A15-828EEC2B7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347DA-3F63-4859-9416-583799DC759C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19EBC-8184-4326-9FA5-9F088FA92F58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995280" y="1852560"/>
            <a:ext cx="28083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Arial Black"/>
              </a:rPr>
              <a:t>POLIC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626920" y="3573000"/>
            <a:ext cx="478476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cc00"/>
                </a:solidFill>
                <a:latin typeface="Arial Black"/>
              </a:rPr>
              <a:t>By Lyl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419640" y="0"/>
            <a:ext cx="2590560" cy="15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Arial Black"/>
              </a:rPr>
              <a:t>Jail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755640" y="112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NZ" sz="3200" spc="-1" strike="noStrike">
                <a:solidFill>
                  <a:srgbClr val="ffcc00"/>
                </a:solidFill>
                <a:latin typeface="Arial Black"/>
              </a:rPr>
              <a:t>Police catch bad people that do a bad thing then they get sent to jail and they learn how to b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NZ" sz="3200" spc="-1" strike="noStrike">
                <a:solidFill>
                  <a:srgbClr val="ffcc00"/>
                </a:solidFill>
                <a:latin typeface="Arial Black"/>
              </a:rPr>
              <a:t>good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tretch/>
        </p:blipFill>
        <p:spPr>
          <a:xfrm>
            <a:off x="0" y="3573360"/>
            <a:ext cx="914400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55640" y="0"/>
            <a:ext cx="575784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Arial Black"/>
              </a:rPr>
              <a:t>weapon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755640" y="112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cc00"/>
                </a:solidFill>
                <a:latin typeface="Arial Black"/>
              </a:rPr>
              <a:t>Police use lots of weapons to catch criminals… taser gun, pepper spray and a pocket knif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826920" y="5589720"/>
            <a:ext cx="3564000" cy="126828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2"/>
          <a:stretch/>
        </p:blipFill>
        <p:spPr>
          <a:xfrm>
            <a:off x="4932360" y="3716280"/>
            <a:ext cx="3887640" cy="155736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3"/>
          <a:stretch/>
        </p:blipFill>
        <p:spPr>
          <a:xfrm>
            <a:off x="2195640" y="2781360"/>
            <a:ext cx="2666880" cy="266688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"/>
          <p:cNvPicPr/>
          <p:nvPr/>
        </p:nvPicPr>
        <p:blipFill>
          <a:blip r:embed="rId4"/>
          <a:stretch/>
        </p:blipFill>
        <p:spPr>
          <a:xfrm>
            <a:off x="0" y="3500280"/>
            <a:ext cx="2087640" cy="19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Arial Black"/>
              </a:rPr>
              <a:t>POLICE CLOTH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cc00"/>
                </a:solidFill>
                <a:latin typeface="Arial Black"/>
              </a:rPr>
              <a:t>POLICE VES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cc00"/>
                </a:solidFill>
                <a:latin typeface="Arial Black"/>
              </a:rPr>
              <a:t>POLICE JUMPER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cc00"/>
                </a:solidFill>
                <a:latin typeface="Arial Black"/>
              </a:rPr>
              <a:t>S.R.B.A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cc00"/>
                </a:solidFill>
                <a:latin typeface="Arial Black"/>
              </a:rPr>
              <a:t>Police have different clothes all over the world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6286680" y="1125360"/>
            <a:ext cx="2857320" cy="38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Arial Black"/>
              </a:rPr>
              <a:t>POLICE VEHICLES    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11280" y="1125000"/>
            <a:ext cx="7772400" cy="39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cc00"/>
                </a:solidFill>
                <a:latin typeface="Arial Black"/>
              </a:rPr>
              <a:t>There are different kinds of police  vehicle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cc00"/>
                </a:solidFill>
                <a:latin typeface="Arial Black"/>
              </a:rPr>
              <a:t>The colours for a police car  is blue and white and red black and orang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 rot="337200">
            <a:off x="6191280" y="4868640"/>
            <a:ext cx="2952720" cy="17780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2"/>
          <a:stretch/>
        </p:blipFill>
        <p:spPr>
          <a:xfrm rot="20958000">
            <a:off x="4284720" y="4076280"/>
            <a:ext cx="2484360" cy="1393920"/>
          </a:xfrm>
          <a:prstGeom prst="rect">
            <a:avLst/>
          </a:prstGeom>
          <a:ln w="0">
            <a:noFill/>
          </a:ln>
        </p:spPr>
      </p:pic>
      <p:pic>
        <p:nvPicPr>
          <p:cNvPr id="368" name="" descr=""/>
          <p:cNvPicPr/>
          <p:nvPr/>
        </p:nvPicPr>
        <p:blipFill>
          <a:blip r:embed="rId3"/>
          <a:stretch/>
        </p:blipFill>
        <p:spPr>
          <a:xfrm>
            <a:off x="4932360" y="1628640"/>
            <a:ext cx="2857680" cy="1247760"/>
          </a:xfrm>
          <a:prstGeom prst="rect">
            <a:avLst/>
          </a:prstGeom>
          <a:ln w="0">
            <a:noFill/>
          </a:ln>
        </p:spPr>
      </p:pic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1332000" y="5373720"/>
            <a:ext cx="195264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cc00"/>
                </a:solidFill>
                <a:latin typeface="Arial Black"/>
              </a:rPr>
              <a:t>Police are here for us for safty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1"/>
          <a:stretch/>
        </p:blipFill>
        <p:spPr>
          <a:xfrm>
            <a:off x="826920" y="404640"/>
            <a:ext cx="5185080" cy="1440000"/>
          </a:xfrm>
          <a:prstGeom prst="rect">
            <a:avLst/>
          </a:prstGeom>
          <a:ln w="0">
            <a:noFill/>
          </a:ln>
        </p:spPr>
      </p:pic>
      <p:pic>
        <p:nvPicPr>
          <p:cNvPr id="373" name="" descr=""/>
          <p:cNvPicPr/>
          <p:nvPr/>
        </p:nvPicPr>
        <p:blipFill>
          <a:blip r:embed="rId2"/>
          <a:stretch/>
        </p:blipFill>
        <p:spPr>
          <a:xfrm>
            <a:off x="2771640" y="5568840"/>
            <a:ext cx="3713400" cy="1289160"/>
          </a:xfrm>
          <a:prstGeom prst="rect">
            <a:avLst/>
          </a:prstGeom>
          <a:ln w="0">
            <a:noFill/>
          </a:ln>
        </p:spPr>
      </p:pic>
      <p:pic>
        <p:nvPicPr>
          <p:cNvPr id="374" name="" descr=""/>
          <p:cNvPicPr/>
          <p:nvPr/>
        </p:nvPicPr>
        <p:blipFill>
          <a:blip r:embed="rId3"/>
          <a:stretch/>
        </p:blipFill>
        <p:spPr>
          <a:xfrm>
            <a:off x="6622920" y="2492280"/>
            <a:ext cx="2521080" cy="18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8" dur="500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00:02:37Z</dcterms:created>
  <dc:creator>5E07</dc:creator>
  <dc:description/>
  <dc:language>en-US</dc:language>
  <cp:lastModifiedBy>5E07</cp:lastModifiedBy>
  <dcterms:modified xsi:type="dcterms:W3CDTF">2011-09-19T02:03:18Z</dcterms:modified>
  <cp:revision>6</cp:revision>
  <dc:subject/>
  <dc:title>POLICE</dc:title>
</cp:coreProperties>
</file>